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DA6B-B9FF-456C-A8A5-0CA14BC60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3D37-A1CF-4CFB-82C8-3FB0DE278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CF45-AF5C-4D1B-A196-6680FB408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7E2B-F0C7-415E-9299-5876E1AD6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E9412-88FB-4880-92A8-A23AAF163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84FE3-8345-4A5B-9D78-6373061FD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9C3ED-B5C1-48E7-8EBB-922327231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6115D-348A-47D3-A868-DD5426A9B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292BE-3F37-46BC-B05E-9531A3278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2DDC7-8C56-40F6-BD30-5488EF8CD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55288-1241-49F0-8478-B07FDF1F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FEBE-1373-4684-949F-1A868960A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92CF6-2385-41F2-B48C-5610B68F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BD2E0-0893-499F-B30E-0806317C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C528E-CE99-42CE-9B94-7F0777208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97F00-F045-4530-A8D6-E01E8250C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BAE28-23C2-4741-88F9-465224BA9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009C-4FE9-4397-A6A9-DA6CBE7BF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8E7A-E851-4804-9271-55B82140E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BA2C-5DBF-4918-88EC-00E9AEB1D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D6CF-47B3-4B39-BB11-94F83703F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BC60-6F7D-44E4-9F87-26F95469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F194-E085-4A6A-9F84-ABDA0911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CAED-1B2D-45B9-B77A-C2C52024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d9ea5"/>
                </a:gs>
                <a:gs pos="100000">
                  <a:srgbClr val="c1c2c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8d0"/>
                </a:gs>
                <a:gs pos="100000">
                  <a:srgbClr val="c1c2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c7c8d0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d9ea5"/>
                </a:gs>
                <a:gs pos="100000">
                  <a:srgbClr val="c1c2c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8d0"/>
                </a:gs>
                <a:gs pos="100000">
                  <a:srgbClr val="c1c2c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BD763-9886-4970-80E4-E460FDA9B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d108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d108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d108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c1c2c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d9ea5"/>
                </a:gs>
                <a:gs pos="100000">
                  <a:srgbClr val="c1c2c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d9ea5"/>
                </a:gs>
                <a:gs pos="100000">
                  <a:srgbClr val="c1c2c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8d0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8d0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E9AAD-BECE-464F-816C-E5B1FF312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d108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d108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Diversity Module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Aspects to D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inar November 15,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iversity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d108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the term diversity mean to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to your peers (fellow administrators, faculty, staff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d108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re diversity in schools with children of one color (all white, all African American)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d108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diversity drive rules, policies, programmatic deci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o, h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udent Discipline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d108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is disciplined at your scho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108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data disaggregated to reflect the multiple sub-populations in your scho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108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school rules negatively impact particular sub-populations within your scho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o, h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iversity and Mission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d108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mission of your school/district achieving the intended outco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is being serv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re sub-populations that are underserved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versity and Programs for Advanced Students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2215800"/>
            <a:ext cx="800748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d108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demographics of the students in your advanced programs/clas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they reflect the multiple sub-populations within your schoo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versity and the Achievement Gap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d108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n achievement ga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do we know when one exi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108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re an achievement gap at your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o between what popula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108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being done to raise the flo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raising the ceil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eve Edwards</cp:lastModifiedBy>
  <dcterms:modified xsi:type="dcterms:W3CDTF">2007-11-05T15:01:4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80977173</vt:r8>
  </property>
  <property fmtid="{D5CDD505-2E9C-101B-9397-08002B2CF9AE}" pid="3" name="_AuthorEmail">
    <vt:lpwstr>stevewedwards@comcast.net</vt:lpwstr>
  </property>
  <property fmtid="{D5CDD505-2E9C-101B-9397-08002B2CF9AE}" pid="4" name="_AuthorEmailDisplayName">
    <vt:lpwstr>Steve Edwards</vt:lpwstr>
  </property>
  <property fmtid="{D5CDD505-2E9C-101B-9397-08002B2CF9AE}" pid="5" name="_EmailSubject">
    <vt:lpwstr/>
  </property>
</Properties>
</file>